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21.jpeg" ContentType="image/jpeg"/>
  <Override PartName="/ppt/media/image26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6207-B381-4976-A007-2E445E923C9C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274F-E040-4EA0-85B7-ED3C21E4342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899-C85F-4CBB-B292-CBAAEBDB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FA8-B6C8-4A9B-8962-6FCCAA9E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3DF67-CC36-4103-9498-929393AC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470B4-D4CD-4754-9283-83AEED2E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98A4F-92AE-46CF-BFC6-0C2316E2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1EA3E-EF70-41EC-85E9-03843C2C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ACB48-6286-4D20-A35E-5A98A6C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85DD1-549E-42F6-A16B-AC7CB813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4D8D5-CA7F-4E97-9BE1-692CA7B1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66867-C443-4813-8167-645D6908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23D5D-A40C-4405-82D0-B4F9E42E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0D016-DB82-4B4F-9B52-529F258C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94D-A256-4299-B1AD-BC8E4A7A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944C9-41AA-4B15-B78F-37994838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8D4D5-3A2B-45B6-ABCA-EB85CCD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E3C3E-A2C2-468C-8F1F-58C9DE28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AE510-8B3A-4977-936A-1E3C73D9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77BB4-466E-49F6-BE23-608168B6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CDE94-77C1-4396-8928-39A9104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2BCC8-F97F-4AD9-9129-9A0FD3C3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5D4DD-0665-4FF6-9E79-3914F424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E3E21-549F-4201-8F56-ED3C7383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A878D-E2A7-4AF3-8FFF-9A120136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8EE-3F1E-4481-B6D6-11AC025B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FA738-452E-41E1-8692-63BB4C10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EE743-9799-47F7-99CC-696FF649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BF643-519F-4F4B-AD96-31BDBBF0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4DBF6-8A13-47EF-BD2E-1292CCD7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EA520-4997-4BEE-8808-DEED29D2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8D33E-EB07-4868-89B5-FCEC9E2E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8F15E-C277-4E7B-8D85-BC263789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A8A4D-4FEB-4FE7-88EA-E2B55AAF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46ADB-A686-4B4E-A721-E48DB6C2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E0A1B-E33F-4FBF-9E77-A2B0E63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FFF2-A016-4588-B74B-E2E5A226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4B5EE-B4EB-4D15-8FB5-5EFC1D7D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A5D0C-74F5-4108-879F-3FFC6DE4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C528C-F1DB-4C23-9605-DDCCDD12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67C67-99BC-4EC3-A1A7-0BCB037C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743AE-913F-40A2-AF62-E5A26AF6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7ADC3-AA38-4DBA-A48E-BC46412D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86B65-B4C6-4CF2-9A47-0A8A8418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91F54-98F5-4991-8A46-EF5CC0F0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594C6-E3D6-42D9-B252-1DAAFA2E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4575E-BA96-4331-A26B-7A0EEB2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EFAD-B392-4D0F-959C-B79E597B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5D7D3-DCFB-430B-B806-D059E1A2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A7551-ABFD-4C24-9D6C-07D809A1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E9C55-A85C-40F6-AF09-8C103751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7F743-9008-494C-8AFF-99162A8D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2C320-7156-409F-9D18-A9E5077C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C0CA2-E216-4124-B20A-3FAB2FED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89C28-0C4C-4BE0-84D6-ACEB53EB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9EB67-5D40-46EB-A8A3-7664CAA2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F4DF4-7083-4C17-97A2-6AE622D6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0221C-7528-4281-9A04-A11DBDA3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A8AD-8889-48A8-8C38-B21F6FC5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6F4A3-AC36-4BB1-822B-AD6D3361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C47E4-7F39-45B6-A8FC-0AB1F6C9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11771-470A-4867-B8E2-4DBBAE8C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A8D50-929D-43D8-AEA3-45E98B2B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F89B6-3E53-4AA1-AFD6-18A9F22A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AF4FC-A016-4512-8569-ED54BC6F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C7609-6A73-48AF-A834-C245677B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40E87-DDBB-4C2F-AC34-E8EACC4B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FABE7-D553-42A7-BFBA-081426B3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82301-6DC1-4B73-9671-80D34DFB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FD5C-D21F-41D9-8602-CF7C7D73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C92C5-F9DA-42FE-9496-10B53D2F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914D9-3A4F-4560-9B47-685547C5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F4F8E-D233-47B1-A44E-98530901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04A98-9886-4608-9BE5-3E32220A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9DF34-F6CF-44C6-8F07-73A118D7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6F670-0E1C-4252-9955-054EB8C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40F63-8A22-4385-8772-D63218A4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1DDAC-6F3D-47AD-9B34-ECBFD67F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7EA17-0E9F-4F78-B7A8-C38700D9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CC08C-B370-4318-BBFE-4462C5C8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9026-1A65-4CAE-A5E4-481F2F48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09FBA-CF1E-4D0D-8BD7-6BE9BAF2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0F97A-2DFF-4851-8F42-40102FD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7F6CA-35DF-4A02-AD03-23152242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C34EA-7505-47F4-ACD0-1B6C54F4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8A272-3F02-4E69-9CE7-64493F52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463B3-1C94-4FAD-8730-BC14DD23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1883C-ADA3-4772-A582-5DDCDE0E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26A35-C146-49EF-916A-CE7F0C9D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596C9-E4E5-4160-AA4A-82431B04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E30AC-EB8E-481B-B052-D34FB178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81C8-2780-4C2A-9E05-FC76FDBE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0690E-7183-41AA-A8B7-BF4851A5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344AA-23E9-4D6F-B298-8CE7F09D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9B5FB9-1FA7-40A1-9A72-CF9CF419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A67F0-6FE5-4D20-97BD-0886D562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34A55-BD86-4C86-84A3-72BC6EC0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663D96-7D27-49F6-9C3D-6B0F25AD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FB950-DB44-4D8F-BE16-86A33750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CCB1A-3D87-4132-B4D7-430BC775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DD990-6183-4189-993E-37D37318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76809-1B62-43BE-8B18-B8EF4E94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F709-7340-4154-99F0-1E6ED94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796E0-1C62-4BF1-8BF6-D0DFD502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D2F70-26D2-4401-BE5F-40B7B031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A274B-3839-49E1-9A91-08A89FFC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92F33-0CA8-48E0-97A1-65986219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ED97C-ECFC-4C72-987A-636166C1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B7F1B-502E-4A67-9F77-6887F7A1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DC82D-5E1F-44D0-A6B8-B6B41E5A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70B97-7FEA-4130-99A6-CBC183D6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57C449-CC03-41DC-BF91-EBE0B22D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DBC17-26D6-4648-8ED8-BA64A14C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696-B0CB-4ADE-959E-BA7BB9B8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CFA6-B29A-45E3-B389-44E40E39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CAA4E-06B2-44CA-B45D-5317C91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7367F-16D3-497B-91DE-D1F569CC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D1F3B-60A8-463D-ADDF-20937A02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E7E4D-EE25-40DE-B8B9-4CD53518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54083-DD17-4B73-A166-88239D40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EAF42-AD21-4B70-9076-D58C498B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D5B74C-C15B-432A-9C88-CE1BD236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10DAE-3C50-415C-84BB-7CF7FCA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09B8F-277F-487C-BC98-2E491ECF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20252-5873-4FD5-9269-F6696971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1D9A-8329-4E04-8B74-DC8E29BD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5211B-5BBE-4218-8DEA-337E3194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FAFAAF-07EC-4313-9B93-D698D1A7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A9264-98C3-4EFF-A5D8-60831FAF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9E537-9284-46EC-A4D9-64D3A9F4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61453-0DD3-4CCF-B160-818CFD80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14DA6-B08A-4390-A219-18CE1058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A74007-2B84-4506-8340-E352230A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11284-F596-4D24-A445-93CC124A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D5AC3A-E78D-4613-A653-1E3117EA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9A397-95AD-48A7-8132-8F545E41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3D74-DBCD-4E0F-88C5-85AE04CC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39FAA-A755-4408-BEDD-89704E8B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ED178C-2435-41B5-8578-4817AE66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C234B-95FC-4D22-A497-A435ADE6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FF4FE-CDED-4E6A-98FD-CF70D5E9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1A7A0-6CC8-4E8E-B0F3-9001CD5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46DA4-65A3-46BE-8894-424EE797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6073D1-FAAA-41DA-86C5-07EC391A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771A4-550D-4F01-A30D-29D6CF76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D2451F-423E-4E1A-A51F-14A5CC3E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8566-D669-4CDA-B5C9-70D685EE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003F-4308-4044-9098-3432BEAC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0D6A-330A-4B0A-A2E2-F619C74E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2F25A-22C4-44C5-9E17-2DA82B91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AA15-38F3-4329-967C-7DADFB36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0BE8-5BBC-4B91-BBDE-B430E51B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C54F-146D-4EA0-95C2-0A83BDE7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9F2-C6CE-47F9-9057-9F81D390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1862-4FA3-4A0F-AC70-DE77B46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841B-92A9-40DA-B48C-B5677B99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8124-72A5-4A82-8C57-7DE94299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A4CE-3185-4648-A702-DA88AB9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A507-2AE7-46D4-86E5-58448A98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BDA8-4152-44FE-A825-A5AFD383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DE51-6663-4197-ADFF-75306C39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CABB-E53D-49EC-8AF8-F9756C57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6C8B-52D2-4DCA-9736-070E2819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479F4-F945-4D2C-A12C-C4780B73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73B-23EA-485E-A043-D9860A38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7DF3-C4E1-442F-8FCE-DE10FF2E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2DE3-51B7-4A6C-9875-6C10A05C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DE946-8A63-4189-AF5F-DC607175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61638-FE34-49D4-8517-AF22E4C0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AE09-8878-4C0E-B51E-487549DA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E36C-FF18-412E-BE4F-9E18785B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D9DA-C2CC-4DDC-B19E-6079B83D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3B89-FBA4-43AF-829C-39A11458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1D51C-886A-4564-8472-A238A0FF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C2CCF-0312-4893-8C8A-C44DB2A6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D79-6ECD-4999-9E8F-AD3BE3C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233C-64C0-4407-8069-33B89BDB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B7EA-29A2-4A27-B800-D50813D2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B67A-74CC-499B-8D9A-17209ED6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21534-2750-4FA4-9CCB-154D8706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555F5-6980-4ACC-A03E-C910151D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5598-0408-4E85-9F45-E2E7CA75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5A7E-EE29-488C-9386-4537AA1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3D0B9-CB4C-487B-AC66-20C472C3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1959D-C462-411C-B891-E7EE4006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52AE-B9EF-4928-9AA3-7AC52F94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B2C-91D1-4A76-B32D-F8870505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1168-7C70-4208-977D-F0535EAE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0ADE2-49C6-4AB3-B53E-B99774EF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1EB3B-B607-4012-97D6-02D721D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3F2C-9E1F-4ED6-AB15-2B4C01C3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F81A-C0CD-48B3-9DA0-2556FC4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2947-1E3B-4336-B3E9-0909640D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5F48-7732-44E7-B80B-3F36640E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45DE-47D7-4E06-9A5A-A76A4F4B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1AACC-C872-4F66-9514-9402FC3E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A409D-5A85-40F5-98C5-19CA6280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4C3-D204-4CD4-9440-0FD1ECC5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828B2-5BB7-45BB-B558-2637FB81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27266-2DC6-482A-8A9B-66A91A91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BB2C2-9076-461B-A483-926D3C55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D61AF-47D6-4F2D-9F99-81EBAC90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76027-961C-4464-B1B3-97E1B7F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AB7D2-251E-4224-95DF-F690C17A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A1A5B-72AE-42A0-AB1B-442BC0D4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56C80-963F-4D4F-923D-99F0471E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E410-B321-4A85-BB26-C9317579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D256E-4C14-433A-9ABF-C02C519E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B82-047D-4595-BC17-005477A4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39C8-9BFB-4470-9560-FC3D7E8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ADDA9-1CF1-4FFF-8650-FB7524D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D99C8-6454-441F-A674-B8A026E4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15B77-29A8-4B14-8749-F2B9DBDC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7A732-66FC-45C0-8FC2-DE92BAF6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6447A-2F42-4F85-8344-7A149D13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25D67-AB98-4754-9310-A28495D0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239CE-6DA8-450C-8170-80BAF333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675CE-DF77-45D6-B952-1F8A1185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75E13-91D3-4080-8A49-2A5C0950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F2C-49AA-47B8-A056-B01ED1F0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3307E-E272-4276-825D-411A1388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8B5F8-0ED6-42F0-B8EC-F30395B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7B9AD-9A33-420B-AC7C-1BD33B8E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6C6FE-1A24-40A3-8A0E-9A2A89FA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AB5E8-CE64-4EFC-9B92-E6665538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FD229-0DFE-48F9-B855-929EF573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CB035-684B-420A-A6E3-6805B9E5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FB5C9-A7AB-4F67-8312-C68A1B02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30CC7-5850-49F7-B951-756E260A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4F468-065E-4BD2-A6EA-13D5CDE8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0160-6F48-4DE8-9B61-6B5EC611B6D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7F41-3F00-4C92-AA52-D27FCA0163A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7BA4-4D75-49B5-B298-5BE69BE8778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1D1F-CDDA-424D-BD3B-C746CB7579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761F-60D4-4696-AC2C-3FB29F1F100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751B-63D2-4DDE-A6FC-65AFB7BFBE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3AD3-E103-4CE0-851E-3908EECBDB8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CAB-6EC7-4E7B-A6C9-459A842C37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1C6C-E096-44E0-8B2B-F65929DB937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0DC2-6FF1-46C4-805D-21321D277A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306C-0B73-4D23-9963-630B66A239C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6EF2-D721-4238-A397-F1AB3042A9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DA41-42DF-4FE2-8ACA-1093E762F6B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2EDB-C1DD-433A-BCD2-90E3BDC88E6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8320-B0CF-417C-88EF-51736F7D4C1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0771-AA89-4DF9-8E3E-FEE8034A58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301F-34F8-4760-9E59-F38BCA55631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B509-0212-4E9D-9065-FC08B66503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EB35-1A15-4A73-949E-F1DF8DD6132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22E8-4353-4183-9ECA-6A5B0E0354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809F-382B-4A1E-9F2C-D982D0E21B7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4EA3-CE27-44CF-ACCD-73ED278387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8091-A23A-47CC-9894-F038FB40A4C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04A5-4CEF-4BAD-A47D-8EA41EBA6D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E53B-BF44-45B0-9579-15E4F12CBB8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9EFE-2498-4FF3-BF8B-F51F9E31625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59CF-B999-4DEC-8DD3-EF511D168F9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A6BC-5360-490F-B831-CFE0A12D919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5D12-6451-4802-B2CA-C2A4B510CBC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24B-2AC4-43C1-909A-4A8BB99EF1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27CF-D11C-48FF-BEC2-E3B5557DBA6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97C0-1B6F-4256-8D47-EC875770A3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4174-06D3-437E-A42F-1BBAA9C42DD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195B-7B4E-4DBA-96FD-B7CBC41410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1E37-B383-4FED-A5A4-9079DDF2C14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9403-3685-4E2B-8656-836C6DC066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D3FA-762E-4A63-8DE9-402C583809A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C145-E002-43C0-A5F0-5CFE90205A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ángulo 8"/>
          <p:cNvSpPr/>
          <p:nvPr/>
        </p:nvSpPr>
        <p:spPr>
          <a:xfrm>
            <a:off x="990720" y="17845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ángulo 9"/>
          <p:cNvSpPr/>
          <p:nvPr/>
        </p:nvSpPr>
        <p:spPr>
          <a:xfrm>
            <a:off x="4191120" y="16765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Imagen 11" descr=""/>
          <p:cNvPicPr/>
          <p:nvPr/>
        </p:nvPicPr>
        <p:blipFill>
          <a:blip r:embed="rId1"/>
          <a:stretch/>
        </p:blipFill>
        <p:spPr>
          <a:xfrm>
            <a:off x="3051000" y="2292480"/>
            <a:ext cx="6093000" cy="4565520"/>
          </a:xfrm>
          <a:prstGeom prst="rect">
            <a:avLst/>
          </a:prstGeom>
          <a:ln w="0">
            <a:noFill/>
          </a:ln>
        </p:spPr>
      </p:pic>
      <p:sp>
        <p:nvSpPr>
          <p:cNvPr id="871" name="Rectángulo 12"/>
          <p:cNvSpPr/>
          <p:nvPr/>
        </p:nvSpPr>
        <p:spPr>
          <a:xfrm>
            <a:off x="3195720" y="3611520"/>
            <a:ext cx="221940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Línea 15"/>
          <p:cNvSpPr/>
          <p:nvPr/>
        </p:nvSpPr>
        <p:spPr>
          <a:xfrm flipH="1" flipV="1">
            <a:off x="2289240" y="2292480"/>
            <a:ext cx="76176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ángulo 16"/>
          <p:cNvSpPr/>
          <p:nvPr/>
        </p:nvSpPr>
        <p:spPr>
          <a:xfrm>
            <a:off x="225360" y="188604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  <a:ea typeface="Arial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ínea 17"/>
          <p:cNvSpPr/>
          <p:nvPr/>
        </p:nvSpPr>
        <p:spPr>
          <a:xfrm flipH="1">
            <a:off x="761760" y="20019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84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85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89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Imagen 2" descr=""/>
          <p:cNvPicPr/>
          <p:nvPr/>
        </p:nvPicPr>
        <p:blipFill>
          <a:blip r:embed="rId1"/>
          <a:stretch/>
        </p:blipFill>
        <p:spPr>
          <a:xfrm>
            <a:off x="1258920" y="-38160"/>
            <a:ext cx="6265800" cy="6896160"/>
          </a:xfrm>
          <a:prstGeom prst="rect">
            <a:avLst/>
          </a:prstGeom>
          <a:ln w="0">
            <a:noFill/>
          </a:ln>
        </p:spPr>
      </p:pic>
      <p:sp>
        <p:nvSpPr>
          <p:cNvPr id="918" name="Cuadro de texto 3"/>
          <p:cNvSpPr/>
          <p:nvPr/>
        </p:nvSpPr>
        <p:spPr>
          <a:xfrm>
            <a:off x="4211640" y="1611360"/>
            <a:ext cx="1873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4"/>
          <p:cNvSpPr/>
          <p:nvPr/>
        </p:nvSpPr>
        <p:spPr>
          <a:xfrm>
            <a:off x="1258920" y="1089000"/>
            <a:ext cx="14400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Cuadro de texto 5"/>
          <p:cNvSpPr/>
          <p:nvPr/>
        </p:nvSpPr>
        <p:spPr>
          <a:xfrm>
            <a:off x="1692360" y="2308320"/>
            <a:ext cx="100656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6"/>
          <p:cNvSpPr/>
          <p:nvPr/>
        </p:nvSpPr>
        <p:spPr>
          <a:xfrm>
            <a:off x="1258920" y="161460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Cuadro de texto 7"/>
          <p:cNvSpPr/>
          <p:nvPr/>
        </p:nvSpPr>
        <p:spPr>
          <a:xfrm>
            <a:off x="4859280" y="1995480"/>
            <a:ext cx="18003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  <a:ea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8"/>
          <p:cNvSpPr/>
          <p:nvPr/>
        </p:nvSpPr>
        <p:spPr>
          <a:xfrm>
            <a:off x="3492360" y="3789360"/>
            <a:ext cx="2880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Cuadro de texto 9"/>
          <p:cNvSpPr/>
          <p:nvPr/>
        </p:nvSpPr>
        <p:spPr>
          <a:xfrm>
            <a:off x="3419640" y="4149720"/>
            <a:ext cx="158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10"/>
          <p:cNvSpPr/>
          <p:nvPr/>
        </p:nvSpPr>
        <p:spPr>
          <a:xfrm>
            <a:off x="4076640" y="648504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D975-419D-4948-BC13-361A0EDE13C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222120" y="836640"/>
            <a:ext cx="8699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9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31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34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37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49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2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6950-1236-4473-A12D-589CC7EE44A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336600" y="1125360"/>
            <a:ext cx="8628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8B6A-0AF6-420A-ACAF-6B4A57BBE56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324000" y="444600"/>
            <a:ext cx="85690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E4E-7BC4-4A26-9BF1-AA9A7F65B78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250920" y="177840"/>
            <a:ext cx="8569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165d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0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6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5E2F-1C6E-4D91-8641-186434B50AE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sp>
        <p:nvSpPr>
          <p:cNvPr id="960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8E21-DF2B-4838-9049-4070FBC6EFE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64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7F0A-C37B-469C-9C3E-8F84CA7909C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250920" y="331920"/>
            <a:ext cx="8642160" cy="6357960"/>
          </a:xfrm>
          <a:prstGeom prst="rect">
            <a:avLst/>
          </a:prstGeom>
          <a:ln w="0">
            <a:noFill/>
          </a:ln>
        </p:spPr>
      </p:pic>
      <p:sp>
        <p:nvSpPr>
          <p:cNvPr id="968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287A-9C4E-41C6-A781-6C2984BF231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Picture 3" descr=""/>
          <p:cNvPicPr/>
          <p:nvPr/>
        </p:nvPicPr>
        <p:blipFill>
          <a:blip r:embed="rId1"/>
          <a:stretch/>
        </p:blipFill>
        <p:spPr>
          <a:xfrm>
            <a:off x="22320" y="260280"/>
            <a:ext cx="5508360" cy="6513480"/>
          </a:xfrm>
          <a:prstGeom prst="rect">
            <a:avLst/>
          </a:prstGeom>
          <a:ln w="0">
            <a:noFill/>
          </a:ln>
        </p:spPr>
      </p:pic>
      <p:sp>
        <p:nvSpPr>
          <p:cNvPr id="975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a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79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1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2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5" name="4 Conector recto de flecha"/>
          <p:cNvCxnSpPr>
            <a:stCxn id="980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6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B500-B07D-47FE-9E10-92C95E7594F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545320" cy="6408720"/>
          </a:xfrm>
          <a:prstGeom prst="rect">
            <a:avLst/>
          </a:prstGeom>
          <a:ln w="0">
            <a:noFill/>
          </a:ln>
        </p:spPr>
      </p:pic>
      <p:sp>
        <p:nvSpPr>
          <p:cNvPr id="990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E91B-1AF4-4216-936C-6552CA49E53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Picture 2" descr=""/>
          <p:cNvPicPr/>
          <p:nvPr/>
        </p:nvPicPr>
        <p:blipFill>
          <a:blip r:embed="rId1"/>
          <a:stretch/>
        </p:blipFill>
        <p:spPr>
          <a:xfrm>
            <a:off x="17640" y="50760"/>
            <a:ext cx="5435280" cy="6775560"/>
          </a:xfrm>
          <a:prstGeom prst="rect">
            <a:avLst/>
          </a:prstGeom>
          <a:ln w="0">
            <a:noFill/>
          </a:ln>
        </p:spPr>
      </p:pic>
      <p:sp>
        <p:nvSpPr>
          <p:cNvPr id="994" name="2 CuadroTexto"/>
          <p:cNvSpPr/>
          <p:nvPr/>
        </p:nvSpPr>
        <p:spPr>
          <a:xfrm>
            <a:off x="6012000" y="0"/>
            <a:ext cx="313200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  <a:ea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FF37-1E55-4241-8C84-76396149FB5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sa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66A6-0D6A-49AF-98DD-0CBF2B9440F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94A0-B935-4BC2-90A6-1F0EAD39DAF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5" name="Picture 4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4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659A-3CF7-4113-A759-9A0B3B8D22D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29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D585-7A53-4C5A-BA30-4071FF42BD3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35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38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  <a:ea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46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48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67A3-28D7-4793-ADE6-D5E041FF6B0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8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59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Preferred Customer</cp:lastModifiedBy>
  <cp:lastPrinted>2012-05-07T21:30:02Z</cp:lastPrinted>
  <dcterms:modified xsi:type="dcterms:W3CDTF">2014-04-20T14:44:52Z</dcterms:modified>
  <cp:revision>40</cp:revision>
  <dc:subject/>
  <dc:title>Presentación de PowerPoint</dc:title>
</cp:coreProperties>
</file>